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8.jpeg" ContentType="image/jpeg"/>
  <Override PartName="/ppt/media/image14.jpeg" ContentType="image/jpeg"/>
  <Override PartName="/ppt/media/image1.gif" ContentType="image/gif"/>
  <Override PartName="/ppt/media/image3.png" ContentType="image/png"/>
  <Override PartName="/ppt/media/image4.gif" ContentType="image/gif"/>
  <Override PartName="/ppt/media/image10.png" ContentType="image/png"/>
  <Override PartName="/ppt/media/image6.jpeg" ContentType="image/jpeg"/>
  <Override PartName="/ppt/media/image2.png" ContentType="image/png"/>
  <Override PartName="/ppt/media/suction.wav" ContentType="audio/x-wav"/>
  <Override PartName="/ppt/media/image5.jpeg" ContentType="image/jpeg"/>
  <Override PartName="/ppt/media/image11.gif" ContentType="image/gif"/>
  <Override PartName="/ppt/media/image7.jpeg" ContentType="image/jpeg"/>
  <Override PartName="/ppt/media/image13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0D420-9F83-4743-BE0A-6F259029D7F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人的一生有很多的需求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友情便是其中的一种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真挚的友情像和煦的阳光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像清新的空气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有了它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你的人生就会增添一份靓丽的色彩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那么怎样才能建立并获得一份真挚的友情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今天我们就来学习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------&lt;&lt;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学   朋友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69F4-D428-4F07-9721-4364CD159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9BB8-DE8D-418F-B9CE-15333E2E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60D8-84F7-4EFC-A2B8-E4ED97DD6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81E9-7310-4C18-A0DC-27FBF26F3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B606-7E90-4E6A-87BC-2C190B40E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D2A41-6BFE-4E87-A659-A26FFC78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6188D-2399-4746-8235-08C02D90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43711-A54A-4522-AB8F-86C5ECFE2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C2FCD-3CEF-43EA-B639-9C0729BE2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EEB8-2CAA-4EF2-BB1E-6B01542D3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C7B6A-541D-40AD-A63B-B8A2918C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D3A3-D5C2-47F7-9A13-716A82F4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2BBDB-4AD9-457B-8F42-5FA67528A1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audio" Target="../media/suction.wav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 rot="5400000">
            <a:off x="-1468440" y="2493720"/>
            <a:ext cx="5108400" cy="11811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1" strike="noStrike">
                <a:ln w="9360">
                  <a:solidFill>
                    <a:srgbClr val="9933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同学 朋友</a:t>
            </a:r>
            <a:endParaRPr b="0" lang="en-US" sz="8000" spc="1" strike="noStrike">
              <a:ln w="9360">
                <a:solidFill>
                  <a:srgbClr val="9933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853272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765000"/>
            <a:ext cx="882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李华小学毕业后，进了重点初中，他深感学习压力很大，几乎把自己封闭起来，全身心地投入到学习中去。工夫不负有心人，一年后，他的各门功课名列前茅，但与此同时，当他看到同学们亲密无间、谈笑风生时，他感到了深深的失落。他没有一个知心朋友，有的同学甚至叫他书呆子。渐渐地，他变得沉默和内向了，他觉得同学们好像都在嫉妒他甚至讨厌他，有的人还在背后嘀嘀咕咕议论他。为此，他一面对自己说：“走自己的路，别人跟我有什么关系”，“友谊是可遇而不可求的”，另一方面，他也感到孤独，渴望被同学们理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5084640"/>
            <a:ext cx="864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、李华的苦恼你有没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56610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、如果任其发展下去，这样对李华有何危害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6278400"/>
            <a:ext cx="88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、请你为李华出主意，帮帮他消除这些烦恼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0"/>
            <a:ext cx="50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彩云"/>
              </a:rPr>
              <a:t>活动三：帮助你我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-36360" y="-27000"/>
            <a:ext cx="9248760" cy="73692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28600" y="5335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808080"/>
                </a:solidFill>
                <a:latin typeface="Arial"/>
              </a:rPr>
              <a:t>交朋友应该保持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积极开放</a:t>
            </a:r>
            <a:r>
              <a:rPr b="1" lang="zh-CN" sz="4800" spc="-1" strike="noStrike">
                <a:solidFill>
                  <a:srgbClr val="808080"/>
                </a:solidFill>
                <a:latin typeface="Arial"/>
              </a:rPr>
              <a:t>的心态。</a:t>
            </a: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真诚、友好、善良、负责任</a:t>
            </a:r>
            <a:r>
              <a:rPr b="1" lang="zh-CN" sz="4800" spc="-1" strike="noStrike">
                <a:solidFill>
                  <a:srgbClr val="808080"/>
                </a:solidFill>
                <a:latin typeface="Arial"/>
              </a:rPr>
              <a:t>等品德会使我们在与同学交往中具有持久的吸引力、较强的沟通意识和沟通能力，也会使自己在集体中具有更高的人气指数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059280" y="549360"/>
            <a:ext cx="3097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0000ff"/>
                </a:solidFill>
                <a:latin typeface="Tahoma"/>
                <a:ea typeface="隶书"/>
              </a:rPr>
              <a:t>艺术创作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692360" y="3213000"/>
            <a:ext cx="5322960" cy="236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12600">
                  <a:solidFill>
                    <a:srgbClr val="00ff00"/>
                  </a:solidFill>
                  <a:miter/>
                </a:ln>
                <a:solidFill>
                  <a:srgbClr val="ffff00">
                    <a:alpha val="66000"/>
                  </a:srgbClr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隶书"/>
              </a:rPr>
              <a:t>制作友情书签</a:t>
            </a:r>
            <a:endParaRPr b="0" lang="en-US" sz="6600" spc="1" strike="noStrike">
              <a:ln w="12600">
                <a:solidFill>
                  <a:srgbClr val="00ff00"/>
                </a:solidFill>
                <a:miter/>
              </a:ln>
              <a:solidFill>
                <a:srgbClr val="ffff00">
                  <a:alpha val="66000"/>
                </a:srgbClr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835280" y="2421000"/>
            <a:ext cx="185724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7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活动五：</a:t>
            </a:r>
            <a:endParaRPr b="1" lang="en-US" sz="4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900000" y="1125360"/>
            <a:ext cx="7920000" cy="24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互赠书签的规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请每位同学为班级中的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位同学制作简易的书签，写下对对方的肯定和赞美，要写得真挚、诚恳，尤其要符合被赞扬者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、书签要有简单的装饰和精炼语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596360" y="765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4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0" t="0" r="9" b="105"/>
          <a:stretch/>
        </p:blipFill>
        <p:spPr>
          <a:xfrm>
            <a:off x="0" y="-1908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609480" y="822240"/>
            <a:ext cx="856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320" y="1905120"/>
            <a:ext cx="420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1280" y="2637000"/>
            <a:ext cx="939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6320" y="4343400"/>
            <a:ext cx="856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11280" y="2708280"/>
            <a:ext cx="374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2556000" y="1700280"/>
            <a:ext cx="4680000" cy="29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华文行楷"/>
              </a:rPr>
              <a:t>再见！</a:t>
            </a:r>
            <a:endParaRPr b="0" lang="en-US" sz="6600" spc="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50920" y="1268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陈因为母亲不幸病逝，内心受到极大的打击。她变得性格孤僻，面容消瘦，成绩下降。班里的几个同学见了心里非常着急，想主动接近她，为她补课，并悄悄打听到了她的生日，决定一起搞一次“秘密”行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4508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你们从这个事例中能得出一个什么结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 flipH="1">
            <a:off x="7353360" y="4941720"/>
            <a:ext cx="1790640" cy="223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68360" y="3860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发挥你的想像，续写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11280" y="333360"/>
            <a:ext cx="52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活动一：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续写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2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1268280"/>
            <a:ext cx="835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陈因为母亲不幸病逝，内心受到极大的打击。她变得性格孤僻，面容消瘦，成绩下降。班里的几个同学见了心里非常着急，想主动接近她，为她补课，并悄悄打听到了她的生日，决定一起搞一次“秘密”行动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50864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你们从这个事例中能得出一个什么结论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flipH="1">
            <a:off x="7353360" y="4941720"/>
            <a:ext cx="1790640" cy="2232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68360" y="386064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993300"/>
                </a:solidFill>
                <a:latin typeface="Times New Roman"/>
              </a:rPr>
              <a:t>、发挥你的想像，续写故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333360"/>
            <a:ext cx="525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活动一：</a:t>
            </a: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彩云"/>
              </a:rPr>
              <a:t>续写故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3240" y="20520"/>
            <a:ext cx="9248760" cy="693756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143000" y="914400"/>
            <a:ext cx="6172200" cy="5943600"/>
          </a:xfrm>
          <a:prstGeom prst="ellipse">
            <a:avLst/>
          </a:prstGeom>
          <a:solidFill>
            <a:srgbClr val="5eca9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1523880"/>
            <a:ext cx="4800600" cy="4648320"/>
          </a:xfrm>
          <a:prstGeom prst="ellipse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2209680"/>
            <a:ext cx="3352680" cy="3276720"/>
          </a:xfrm>
          <a:prstGeom prst="ellipse">
            <a:avLst/>
          </a:prstGeom>
          <a:solidFill>
            <a:srgbClr val="ffc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27936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  <a:ea typeface="华文彩云"/>
              </a:rPr>
              <a:t>活动二：我的人际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00400" y="2743200"/>
            <a:ext cx="213372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我的姓名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20955000">
            <a:off x="3886560" y="4876560"/>
            <a:ext cx="1252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知 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rot="19034400">
            <a:off x="4613760" y="4127040"/>
            <a:ext cx="209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朋 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2200800">
            <a:off x="2439360" y="571464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黑体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221000">
            <a:off x="2819160" y="5943240"/>
            <a:ext cx="76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1034400">
            <a:off x="3276360" y="60955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342000">
            <a:off x="3733920" y="61718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191120" y="617220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0338800">
            <a:off x="4700520" y="5816160"/>
            <a:ext cx="207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朋 友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346600">
            <a:off x="5385600" y="1125000"/>
            <a:ext cx="21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陌生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2837160" y="1555560"/>
            <a:ext cx="3564720" cy="1072080"/>
            <a:chOff x="2837160" y="1555560"/>
            <a:chExt cx="3564720" cy="1072080"/>
          </a:xfrm>
        </p:grpSpPr>
        <p:sp>
          <p:nvSpPr>
            <p:cNvPr id="77" name=""/>
            <p:cNvSpPr/>
            <p:nvPr/>
          </p:nvSpPr>
          <p:spPr>
            <a:xfrm rot="20336400">
              <a:off x="2895480" y="178236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较 好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86200" y="1630440"/>
              <a:ext cx="609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697800">
              <a:off x="4335120" y="1847520"/>
              <a:ext cx="202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99"/>
                  </a:solidFill>
                  <a:latin typeface="Times New Roman"/>
                </a:rPr>
                <a:t>朋 友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-514440" y="1981080"/>
            <a:ext cx="15210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人际关系树轮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8760" cy="693720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82760" y="0"/>
            <a:ext cx="8661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观察自己和同学的人际关系树轮图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并认真思考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有多少人进入了你的人际圈？分别在什么位置上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找一找：你分别在同学们树轮图的什么位置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你对自己的人际关系状况满意吗？对自己的人际关系状况有什么新发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8760" cy="6937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3520" y="45720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3141720"/>
            <a:ext cx="883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cc0099"/>
                </a:solidFill>
                <a:latin typeface="Arial"/>
              </a:rPr>
              <a:t>受欢迎的品质有：真诚、理解、值得信赖、理智、有思想、体贴、热情、友好、不自私、幽默、负责任、开朗、信任别人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0920" y="333360"/>
            <a:ext cx="720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3300"/>
                </a:solidFill>
                <a:latin typeface="Times New Roman"/>
                <a:ea typeface="华文新魏"/>
              </a:rPr>
              <a:t>活动四：</a:t>
            </a: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华文新魏"/>
              </a:rPr>
              <a:t>人气指数排行榜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04960" y="1700280"/>
            <a:ext cx="350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80"/>
                </a:solidFill>
                <a:latin typeface="Verdana"/>
              </a:rPr>
              <a:t>想一想</a:t>
            </a:r>
            <a:r>
              <a:rPr b="1" lang="zh-CN" sz="3600" spc="-1" strike="noStrike">
                <a:solidFill>
                  <a:srgbClr val="008080"/>
                </a:solidFill>
                <a:latin typeface="Verdana"/>
              </a:rPr>
              <a:t>:</a:t>
            </a:r>
            <a:r>
              <a:rPr b="1" lang="zh-CN" sz="3600" spc="-1" strike="noStrike">
                <a:solidFill>
                  <a:srgbClr val="008080"/>
                </a:solidFill>
                <a:latin typeface="Verdana"/>
              </a:rPr>
              <a:t>他们为什么受欢迎</a:t>
            </a:r>
            <a:r>
              <a:rPr b="1" lang="zh-CN" sz="3600" spc="-1" strike="noStrike">
                <a:solidFill>
                  <a:srgbClr val="008080"/>
                </a:solidFill>
                <a:latin typeface="Verdana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1125360"/>
            <a:ext cx="777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华文中宋"/>
                <a:ea typeface="华文中宋"/>
              </a:rPr>
              <a:t>组里最受欢迎的两位同学是</a:t>
            </a:r>
            <a:r>
              <a:rPr b="0" lang="zh-CN" sz="3200" spc="-1" strike="noStrike">
                <a:solidFill>
                  <a:srgbClr val="333399"/>
                </a:solidFill>
                <a:latin typeface="华文中宋"/>
                <a:ea typeface="华文中宋"/>
              </a:rPr>
              <a:t>__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249228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新宋体"/>
              </a:rPr>
              <a:t>班级中最受欢迎的同学有哪些共同特点</a:t>
            </a:r>
            <a:r>
              <a:rPr b="1" lang="zh-CN" sz="3200" spc="-1" strike="noStrike">
                <a:solidFill>
                  <a:srgbClr val="008080"/>
                </a:solidFill>
                <a:latin typeface="Times New Roman"/>
                <a:ea typeface="新宋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8760" cy="693432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4360" y="496440"/>
            <a:ext cx="5591160" cy="9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不受欢迎的品质有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-108000" y="2205000"/>
            <a:ext cx="702000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8080"/>
                </a:solidFill>
                <a:latin typeface="Arial"/>
                <a:ea typeface="黑体"/>
              </a:rPr>
              <a:t>  </a:t>
            </a:r>
            <a:r>
              <a:rPr b="0" lang="zh-CN" sz="4400" spc="-1" strike="noStrike">
                <a:solidFill>
                  <a:srgbClr val="008080"/>
                </a:solidFill>
                <a:latin typeface="Arial"/>
                <a:ea typeface="黑体"/>
              </a:rPr>
              <a:t>尖刻、多嘴多舌、自私、目光短浅、粗鲁、自高自大、贪婪、不真诚、恶毒、不老实、冷酷、邪恶、说谎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443640" y="4719600"/>
            <a:ext cx="2700360" cy="21384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012000" y="0"/>
            <a:ext cx="3132000" cy="388764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72360" y="1413000"/>
            <a:ext cx="24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方正舒体"/>
                <a:ea typeface="方正舒体"/>
              </a:rPr>
              <a:t>我不要</a:t>
            </a:r>
            <a:r>
              <a:rPr b="0" lang="zh-CN" sz="5400" spc="-1" strike="noStrike">
                <a:solidFill>
                  <a:srgbClr val="ff3300"/>
                </a:solidFill>
                <a:latin typeface="方正舒体"/>
                <a:ea typeface="方正舒体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-608040" y="-455760"/>
            <a:ext cx="9752040" cy="73137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116000" y="162864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敞开心扉，积极交往，开放自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987640" y="7101000"/>
            <a:ext cx="7128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幼圆"/>
                <a:ea typeface="幼圆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00000" y="4005360"/>
            <a:ext cx="41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ff0000"/>
                </a:solidFill>
                <a:latin typeface="隶书"/>
                <a:ea typeface="隶书"/>
              </a:rPr>
              <a:t>、做个受欢迎的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003640" y="4221000"/>
            <a:ext cx="3745080" cy="1008360"/>
          </a:xfrm>
          <a:prstGeom prst="ellipse">
            <a:avLst/>
          </a:prstGeom>
          <a:solidFill>
            <a:srgbClr val="3333ff"/>
          </a:solidFill>
          <a:ln cap="sq" w="1260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什么样的人受欢迎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455840" y="923760"/>
            <a:ext cx="642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怎样让自己的朋友更多一些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11280" y="549360"/>
            <a:ext cx="799308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如何让自己成长为受大家欢迎的人呢</a:t>
            </a: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ff00"/>
                    </a:gs>
                  </a:gsLst>
                  <a:lin ang="135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?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ff6600"/>
                  </a:gs>
                  <a:gs pos="100000">
                    <a:srgbClr val="ffff00"/>
                  </a:gs>
                </a:gsLst>
                <a:lin ang="135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258920" y="2492280"/>
            <a:ext cx="93348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品德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492360" y="2781360"/>
            <a:ext cx="186696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100000">
                      <a:srgbClr val="333300"/>
                    </a:gs>
                  </a:gsLst>
                  <a:lin ang="135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楷体_GB2312"/>
              </a:rPr>
              <a:t>交往能力</a:t>
            </a:r>
            <a:endParaRPr b="1" lang="en-US" sz="18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100000">
                    <a:srgbClr val="333300"/>
                  </a:gs>
                </a:gsLst>
                <a:lin ang="135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372360" y="3141720"/>
            <a:ext cx="1866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99ff66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100000">
                      <a:srgbClr val="99ff66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个性特征</a:t>
            </a:r>
            <a:endParaRPr b="1" lang="en-US" sz="1800" spc="1" strike="noStrike">
              <a:ln w="9360">
                <a:solidFill>
                  <a:srgbClr val="99ff66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100000">
                    <a:srgbClr val="99ff66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5084640"/>
            <a:ext cx="914400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str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4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04:40:39Z</dcterms:created>
  <dc:creator/>
  <dc:description/>
  <dc:language>en-US</dc:language>
  <cp:lastModifiedBy/>
  <dcterms:modified xsi:type="dcterms:W3CDTF">2012-09-19T07:32:12Z</dcterms:modified>
  <cp:revision>146</cp:revision>
  <dc:subject/>
  <dc:title/>
</cp:coreProperties>
</file>